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8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7.jpeg" ContentType="image/jpeg"/>
  <Override PartName="/ppt/media/image20.png" ContentType="image/pn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578F-DD22-409F-9FAD-5AE139B70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8043-9B64-43B1-9F1F-EEF29BDF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6ED4-3FE5-4C78-89D9-D0D750BDC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8B39-5885-4ADA-8B46-60B0B5F40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192FC-E095-4CCC-9D7B-BE5898173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E6E138-8AE0-4233-A663-24C3F5F4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FFCD1-91AE-445C-98AF-7DFD59EC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6870D-7FFA-4B64-8136-8C73E270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928D6-1130-409A-B038-00C8F693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63A4E-4AF3-4EBD-ABF1-99555C51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CA14F-5C62-4F0D-A34F-76D91D93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5BF0-3990-4CC7-A1B2-22F1878E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F6E71-BE60-405E-ABBD-7BE1A84B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F7A02-6079-4A01-9BFB-87289832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81214-D4B7-4D12-897C-F12473E7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EE4C2-64B4-4984-BF2F-1E30CB7B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D384D-954D-4AFA-B7B9-013F2699A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D829-490F-40DF-BCBB-A124229E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0FB1-6B3D-4C2E-88C4-98C3D4B3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E54D-192A-4315-9968-234361BE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6FA0-8866-4894-9CB5-5A916947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CFD4-F2E8-4C25-B457-3658301A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B083-A9CD-472F-BAE2-F4708FC8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4177-653A-420A-8E04-74AE891B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0093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C0F0-3E14-4CF0-868F-CB3E291B75B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0093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2B19-4302-49B6-8372-5B1180C335B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0093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1476360" y="90792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ckwell Extra Bold"/>
              </a:rPr>
              <a:t>            </a:t>
            </a: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TV in our lif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IM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expand pupils’ vocabul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widen pupils knowledge to the top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involve pupils into reading, writing, communicative activ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 rot="889800">
            <a:off x="6156360" y="475920"/>
            <a:ext cx="2438280" cy="30718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0093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NTRODUCTION OF NEW WORD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nel -.a television station and all the programmes broadcast by it: We watched the news on Channel 4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948360" y="3429000"/>
            <a:ext cx="1440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rint MT Shadow"/>
              </a:rPr>
              <a:t>AB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rint MT Shadow"/>
              <a:ea typeface="Imprint MT Shadow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356000" y="4076640"/>
            <a:ext cx="18716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0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Sylfaen"/>
              </a:rPr>
              <a:t>FC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Sylfaen"/>
              <a:ea typeface="Sylfae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659640" y="4869000"/>
            <a:ext cx="16952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0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CB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0" y="2924280"/>
            <a:ext cx="165564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Freestyle Script"/>
              </a:rPr>
              <a:t>PB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Freestyle Script"/>
              <a:ea typeface="Freestyle Scrip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732720" y="1916280"/>
            <a:ext cx="2016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Lucida Sans Typewriter"/>
              </a:rPr>
              <a:t>HB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Lucida Sans Typewriter"/>
              <a:ea typeface="Lucida Sans Typewriter"/>
            </a:endParaRPr>
          </a:p>
        </p:txBody>
      </p:sp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0093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4475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 commercial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 advertisement on television or rad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 summary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 short statement that gives the main information about something, without giving all the details: Please write a one-page summary of this report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580000" y="765000"/>
            <a:ext cx="2755800" cy="1981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508720" y="3357720"/>
            <a:ext cx="2808360" cy="1919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0093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424476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brief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– continuing for a short time: a brief visit; to give someone all the necessary information about a situation , so that  they are prepared for it: The president has been fully briefed on the current situation in Hait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ublic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onnected with all the ordinary people I a country, who are not members of the government: The law was changed as a result of public pressu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64000" y="549360"/>
            <a:ext cx="3259440" cy="1981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364000" y="3645000"/>
            <a:ext cx="3090960" cy="20365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0093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496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o attrac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to make someone interested in something, or make them want to take part in someth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o enrich 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improve the quality of something, especially by adding things to 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940360" y="69228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012000" y="3429000"/>
            <a:ext cx="2592360" cy="1981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0093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4000" y="692280"/>
            <a:ext cx="4537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o focus 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special attention that is given to one particular subject or situ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o include-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if a group or a set includes something or someone, it has that thing or person as one of its parts. .2.- to make someone or something part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large group or s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12000" y="333360"/>
            <a:ext cx="2305080" cy="2222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796000" y="3213000"/>
            <a:ext cx="2665440" cy="2079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0093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4360" y="9079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o spread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 become known about or used by people more and more: News of the explosion spread swiftl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ember: spread-spread-spre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651640" y="1628640"/>
            <a:ext cx="2598480" cy="2987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0093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10920" y="620280"/>
            <a:ext cx="460836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except smb/smth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used to introduce the only thing or person in a group about which a statement is not true: Everyone except Adam went to the concert. You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ve any of the cakes except this o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in order to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or the purpose of doing something: In order to understand how the human body works, you need to have some knowledge of chemist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041560" cy="2255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300720" y="3500280"/>
            <a:ext cx="1962360" cy="2052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0093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539640" y="333360"/>
          <a:ext cx="8229600" cy="6175440"/>
        </p:xfrm>
        <a:graphic>
          <a:graphicData uri="http://schemas.openxmlformats.org/drawingml/2006/table">
            <a:tbl>
              <a:tblPr/>
              <a:tblGrid>
                <a:gridCol w="2741760"/>
                <a:gridCol w="2744640"/>
                <a:gridCol w="2743200"/>
              </a:tblGrid>
              <a:tr h="63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grammes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itain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kraine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ama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%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tertainment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.5%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chools and Education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.5%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eneral informatio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%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w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%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lm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.5%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ildren’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%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ort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5%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he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%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0093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11280" y="333360"/>
          <a:ext cx="8064360" cy="6291360"/>
        </p:xfrm>
        <a:graphic>
          <a:graphicData uri="http://schemas.openxmlformats.org/drawingml/2006/table">
            <a:tbl>
              <a:tblPr/>
              <a:tblGrid>
                <a:gridCol w="2689200"/>
                <a:gridCol w="2685960"/>
                <a:gridCol w="26892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grammes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itain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kraine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ama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%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.99%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tertainment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.5%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1.01%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chools and Education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.5%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%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eneral informatio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%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%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w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%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%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lm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.5%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%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ildren’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%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he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%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0093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Your home task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rite a paragraph about the role of mass media in our lif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rite a paragraph about your favourite TV programm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0093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Diagram 6"/>
          <p:cNvGrpSpPr/>
          <p:nvPr/>
        </p:nvGrpSpPr>
        <p:grpSpPr>
          <a:xfrm>
            <a:off x="1854360" y="385560"/>
            <a:ext cx="5433840" cy="5332680"/>
            <a:chOff x="1854360" y="385560"/>
            <a:chExt cx="5433840" cy="5332680"/>
          </a:xfrm>
        </p:grpSpPr>
        <p:sp>
          <p:nvSpPr>
            <p:cNvPr id="86" name="_s109575"/>
            <p:cNvSpPr/>
            <p:nvPr/>
          </p:nvSpPr>
          <p:spPr>
            <a:xfrm flipH="1" flipV="1">
              <a:off x="3489480" y="2290680"/>
              <a:ext cx="542880" cy="434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_s109576"/>
            <p:cNvSpPr/>
            <p:nvPr/>
          </p:nvSpPr>
          <p:spPr>
            <a:xfrm>
              <a:off x="2254320" y="1168200"/>
              <a:ext cx="1384200" cy="13845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Comic Sans MS"/>
                </a:rPr>
                <a:t>soap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Comic Sans MS"/>
                </a:rPr>
                <a:t>oper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_s109577"/>
            <p:cNvSpPr/>
            <p:nvPr/>
          </p:nvSpPr>
          <p:spPr>
            <a:xfrm flipH="1">
              <a:off x="3220560" y="3308400"/>
              <a:ext cx="677880" cy="153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_s109578"/>
            <p:cNvSpPr/>
            <p:nvPr/>
          </p:nvSpPr>
          <p:spPr>
            <a:xfrm>
              <a:off x="1854360" y="2925720"/>
              <a:ext cx="1384200" cy="13842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dram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_s109579"/>
            <p:cNvSpPr/>
            <p:nvPr/>
          </p:nvSpPr>
          <p:spPr>
            <a:xfrm flipH="1">
              <a:off x="3970440" y="3776760"/>
              <a:ext cx="301680" cy="625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_s109580"/>
            <p:cNvSpPr/>
            <p:nvPr/>
          </p:nvSpPr>
          <p:spPr>
            <a:xfrm>
              <a:off x="2978280" y="4333680"/>
              <a:ext cx="1384200" cy="13845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66"/>
                  </a:solidFill>
                  <a:latin typeface="Comic Sans MS"/>
                </a:rPr>
                <a:t>animat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66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ffff66"/>
                  </a:solidFill>
                  <a:latin typeface="Comic Sans MS"/>
                </a:rPr>
                <a:t>carto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_s109581"/>
            <p:cNvSpPr/>
            <p:nvPr/>
          </p:nvSpPr>
          <p:spPr>
            <a:xfrm>
              <a:off x="4870440" y="3776760"/>
              <a:ext cx="301680" cy="625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_s109582"/>
            <p:cNvSpPr/>
            <p:nvPr/>
          </p:nvSpPr>
          <p:spPr>
            <a:xfrm>
              <a:off x="4780080" y="4333680"/>
              <a:ext cx="1384200" cy="13845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ff"/>
                  </a:solidFill>
                  <a:latin typeface="Comic Sans MS"/>
                </a:rPr>
                <a:t>horror fil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109583"/>
            <p:cNvSpPr/>
            <p:nvPr/>
          </p:nvSpPr>
          <p:spPr>
            <a:xfrm>
              <a:off x="5243400" y="3308400"/>
              <a:ext cx="677880" cy="153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_s109584"/>
            <p:cNvSpPr/>
            <p:nvPr/>
          </p:nvSpPr>
          <p:spPr>
            <a:xfrm>
              <a:off x="5904000" y="2924280"/>
              <a:ext cx="1384200" cy="13842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cc"/>
                  </a:solidFill>
                  <a:latin typeface="Comic Sans MS"/>
                </a:rPr>
                <a:t>come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109585"/>
            <p:cNvSpPr/>
            <p:nvPr/>
          </p:nvSpPr>
          <p:spPr>
            <a:xfrm flipV="1">
              <a:off x="5110200" y="2290680"/>
              <a:ext cx="542880" cy="433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_s109586"/>
            <p:cNvSpPr/>
            <p:nvPr/>
          </p:nvSpPr>
          <p:spPr>
            <a:xfrm>
              <a:off x="5502240" y="1166760"/>
              <a:ext cx="1384200" cy="13842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99"/>
                  </a:solidFill>
                  <a:latin typeface="Comic Sans MS"/>
                </a:rPr>
                <a:t>documenta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109587"/>
            <p:cNvSpPr/>
            <p:nvPr/>
          </p:nvSpPr>
          <p:spPr>
            <a:xfrm flipV="1">
              <a:off x="4570560" y="1769760"/>
              <a:ext cx="0" cy="693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_s109588"/>
            <p:cNvSpPr/>
            <p:nvPr/>
          </p:nvSpPr>
          <p:spPr>
            <a:xfrm>
              <a:off x="3878280" y="385560"/>
              <a:ext cx="1384200" cy="13845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Comic Sans MS"/>
                </a:rPr>
                <a:t>thrill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_s109589"/>
            <p:cNvSpPr/>
            <p:nvPr/>
          </p:nvSpPr>
          <p:spPr>
            <a:xfrm>
              <a:off x="3878280" y="2463840"/>
              <a:ext cx="1384200" cy="13842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genr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0093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 rot="20232600">
            <a:off x="684000" y="980640"/>
            <a:ext cx="4286160" cy="41720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788000" y="3429000"/>
            <a:ext cx="360036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ye-bye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0093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584280"/>
            <a:ext cx="8229600" cy="5143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0093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52400" y="291960"/>
            <a:ext cx="7637400" cy="5727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0093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92160" y="291960"/>
            <a:ext cx="7159680" cy="5727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0093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8360" y="371520"/>
            <a:ext cx="8064360" cy="5649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0093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372160" cy="4103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0093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52400" y="291960"/>
            <a:ext cx="7637400" cy="5727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0093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424720" cy="4557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8:21:10Z</dcterms:created>
  <dc:creator>Zver</dc:creator>
  <dc:description/>
  <dc:language>en-US</dc:language>
  <cp:lastModifiedBy>Customer</cp:lastModifiedBy>
  <dcterms:modified xsi:type="dcterms:W3CDTF">2009-11-30T18:12:45Z</dcterms:modified>
  <cp:revision>14</cp:revision>
  <dc:subject/>
  <dc:title>Слайд 1</dc:title>
</cp:coreProperties>
</file>