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4A6-A5AF-4529-B0C3-B3959EF3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4E5-E9C7-4DAA-995F-857DFE0F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489-4507-4F1F-A4A9-9E70E1AB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9B1-7AAD-464C-B3A3-0AB4DB7B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E77-2A6C-4B1C-939F-79C641C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C29-2D7D-4ED6-8132-23A085E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392-3B4C-422E-A7A3-3D92388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72E-5125-4375-BFE5-F07C8A9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E7F-500F-4D0B-9E71-0D6FDF3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E03-180E-4F4B-95B9-44601F8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74D-693B-49EC-B8C2-A92687C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104-4702-4BB4-9EF1-A9DCCAD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C761-ACEB-404A-B003-AFCBDFC2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V using. Defining and non-defining relative cla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3035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“Find the pai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692280"/>
          <a:ext cx="8568720" cy="5905080"/>
        </p:xfrm>
        <a:graphic>
          <a:graphicData uri="http://schemas.openxmlformats.org/drawingml/2006/table">
            <a:tbl>
              <a:tblPr/>
              <a:tblGrid>
                <a:gridCol w="4285080"/>
                <a:gridCol w="428364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met your frien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were popular all over the worl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affes are animal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plays the viol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mas Edison was the scientis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goes from Venice to Corfu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ve got some relativ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nvented the electric ligh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uvius is the volcan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cooks food quickl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atles recorded song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come from Afric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 ferr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were born in Turke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icrowave is a machin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destroyed the city of Pompe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CONCLUSI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People&gt; who, whose, 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Place&gt; where, 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Things&gt; which, whose, 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atch only the b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3449880" cy="275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37447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ise the words and words combinations to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guess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of a new materi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An announcer who works at another TV programme was late tha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 announcer, who works at another TV programme, was late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ews rea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a pleasant vo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du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ughter I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tor at the TV channel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s a special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chan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had a broad cas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l in the sentences with “who” or “which/tha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’s the shop …sells good sports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the runner… came first in the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’s the doctor… works in our local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n is the girl… lives next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Cross is a charity organization… gives aid to countries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et Street,…was a center of British press, became a tourist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y likes Jim,…is an honest g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l in the sentences with “whose” ,”where” or “when”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I like to visit places… nobody else g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island… I go on holiday is a beautiful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 spoke to the woman… daughter 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inda is the student… exam results were fanta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That was the year… I started playing the gu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This is the place… your parents met each other for the first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mma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US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WITH A NON-DEFINING RELATIVE CLA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mistak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m Brown, that lives in London, watches BBC cha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rrect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m Brown, who lives in London, watches BBC cha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1640" y="3284640"/>
            <a:ext cx="93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335772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19640" y="5734080"/>
            <a:ext cx="2676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66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BC channel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66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ut comm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riend who has a red bicycle wants to sign up for the Tour de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where more than a million people live never sle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rilla which has ran away from the zoo is hiding somewhere in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ie’s boss whose girlfriend has left him has bought Bettie a bouquet of fl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tas which are yellow and have black spots can run up to 120 km/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 the three ideas to form one non-defining relative cla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ctor’s sister-does ballet- loves eating pean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ctor’s sister, who does ballet, loves eating pea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ue-made of pure gold - has been sto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tawa - capital of Canada-is very cold in w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uncle’s farm - we go to every summer-is the best place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-my brother –in- law- has his own successfu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a- you liked her photos so much- is coming to visit us to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48830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0:12:28Z</dcterms:created>
  <dc:creator>Zver</dc:creator>
  <dc:description/>
  <dc:language>en-US</dc:language>
  <cp:lastModifiedBy>Zver</cp:lastModifiedBy>
  <dcterms:modified xsi:type="dcterms:W3CDTF">2009-11-19T10:49:46Z</dcterms:modified>
  <cp:revision>2</cp:revision>
  <dc:subject/>
  <dc:title> TV using. Defining and non-defining relative clause.</dc:title>
</cp:coreProperties>
</file>