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34D-EC54-4D05-B4EB-0ABBFA17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BB0-5F7E-4818-9DA3-50380D17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14F-F541-46A9-9EAF-9E44F8A1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57F-51C7-47D0-AC0E-F44E3644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CC3F-90C2-432F-9CB1-9901A510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EBC2-C84D-42A1-B292-A820B388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B075-66BF-4E76-A666-7F870E34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8BC2-767A-4A20-9F18-0023675B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6BB7-D170-4B46-AD1F-37E12203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0665-D47C-465C-8AD3-66722F2B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E0B8-4341-47C4-B275-3E813969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A56-58BF-45F2-8698-8CB5D6C4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57F5-71A0-4F12-8F68-86B77ED9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548F-FA72-4C46-BAD9-2E8F49C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031F-868E-4528-9075-73473AE9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D14C-0621-4F70-9F89-0E371A8F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683E-B5A1-4CB7-869F-082824E8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830-3803-491F-AEB3-FB78D12C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4C1-768F-445F-9F63-7FFE6F44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537-580D-4912-942E-01AFA243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DF9-D145-4E79-A806-6EEDEED9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FD7E-025B-430D-BB75-4D8E3BAE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73D-46C5-44A0-86E2-FC2B3B49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5805-46A9-4BAF-9900-141AF210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4976-AF0B-42EE-9377-D3954C4A4F5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5940-4930-49E6-8CEB-CB8A8227E71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7"/>
          <p:cNvSpPr txBox="1"/>
          <p:nvPr/>
        </p:nvSpPr>
        <p:spPr>
          <a:xfrm>
            <a:off x="395280" y="2781360"/>
            <a:ext cx="828036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POPULAR TV PROGRAMM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  <p:pic>
        <p:nvPicPr>
          <p:cNvPr id="87" name="Picture 8" descr="images"/>
          <p:cNvPicPr/>
          <p:nvPr/>
        </p:nvPicPr>
        <p:blipFill>
          <a:blip r:embed="rId1"/>
          <a:stretch/>
        </p:blipFill>
        <p:spPr>
          <a:xfrm rot="20206200">
            <a:off x="4716360" y="1699920"/>
            <a:ext cx="1171800" cy="876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5fe85a77ebae"/>
          <p:cNvPicPr/>
          <p:nvPr/>
        </p:nvPicPr>
        <p:blipFill>
          <a:blip r:embed="rId2"/>
          <a:stretch/>
        </p:blipFill>
        <p:spPr>
          <a:xfrm rot="799200">
            <a:off x="5651280" y="188640"/>
            <a:ext cx="1333440" cy="1679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271"/>
          <p:cNvPicPr/>
          <p:nvPr/>
        </p:nvPicPr>
        <p:blipFill>
          <a:blip r:embed="rId3"/>
          <a:stretch/>
        </p:blipFill>
        <p:spPr>
          <a:xfrm>
            <a:off x="7289640" y="115920"/>
            <a:ext cx="1854360" cy="1141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dancing-with-stars-5-photo-789711"/>
          <p:cNvPicPr/>
          <p:nvPr/>
        </p:nvPicPr>
        <p:blipFill>
          <a:blip r:embed="rId4"/>
          <a:stretch/>
        </p:blipFill>
        <p:spPr>
          <a:xfrm rot="624000">
            <a:off x="7885080" y="1125360"/>
            <a:ext cx="1096920" cy="1490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3469_"/>
          <p:cNvPicPr/>
          <p:nvPr/>
        </p:nvPicPr>
        <p:blipFill>
          <a:blip r:embed="rId5"/>
          <a:stretch/>
        </p:blipFill>
        <p:spPr>
          <a:xfrm rot="19618200">
            <a:off x="539280" y="4076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the-simple-life-fox-tv-reality-show"/>
          <p:cNvPicPr/>
          <p:nvPr/>
        </p:nvPicPr>
        <p:blipFill>
          <a:blip r:embed="rId6"/>
          <a:stretch/>
        </p:blipFill>
        <p:spPr>
          <a:xfrm rot="20581800">
            <a:off x="323640" y="620280"/>
            <a:ext cx="1350720" cy="199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1" descr="87265"/>
          <p:cNvPicPr/>
          <p:nvPr/>
        </p:nvPicPr>
        <p:blipFill>
          <a:blip r:embed="rId7"/>
          <a:stretch/>
        </p:blipFill>
        <p:spPr>
          <a:xfrm rot="1018200">
            <a:off x="7236000" y="4005000"/>
            <a:ext cx="1652400" cy="1955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" descr="oprah-winfrey"/>
          <p:cNvPicPr/>
          <p:nvPr/>
        </p:nvPicPr>
        <p:blipFill>
          <a:blip r:embed="rId8"/>
          <a:stretch/>
        </p:blipFill>
        <p:spPr>
          <a:xfrm>
            <a:off x="5796000" y="4005360"/>
            <a:ext cx="1425600" cy="1704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6" descr="TarasBulba"/>
          <p:cNvPicPr/>
          <p:nvPr/>
        </p:nvPicPr>
        <p:blipFill>
          <a:blip r:embed="rId9"/>
          <a:stretch/>
        </p:blipFill>
        <p:spPr>
          <a:xfrm>
            <a:off x="4643280" y="4797360"/>
            <a:ext cx="1371600" cy="1940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7" descr="49_kommerc"/>
          <p:cNvPicPr/>
          <p:nvPr/>
        </p:nvPicPr>
        <p:blipFill>
          <a:blip r:embed="rId10"/>
          <a:stretch/>
        </p:blipFill>
        <p:spPr>
          <a:xfrm rot="485400">
            <a:off x="6516720" y="5157720"/>
            <a:ext cx="1073160" cy="148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8" descr="American_Idol_III_Soul_CD_Cover"/>
          <p:cNvPicPr/>
          <p:nvPr/>
        </p:nvPicPr>
        <p:blipFill>
          <a:blip r:embed="rId11"/>
          <a:stretch/>
        </p:blipFill>
        <p:spPr>
          <a:xfrm rot="20890200">
            <a:off x="1907640" y="450864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9" descr="the weakest link"/>
          <p:cNvPicPr/>
          <p:nvPr/>
        </p:nvPicPr>
        <p:blipFill>
          <a:blip r:embed="rId12"/>
          <a:stretch/>
        </p:blipFill>
        <p:spPr>
          <a:xfrm rot="21201000">
            <a:off x="1619280" y="1159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0" descr="deal"/>
          <p:cNvPicPr/>
          <p:nvPr/>
        </p:nvPicPr>
        <p:blipFill>
          <a:blip r:embed="rId13"/>
          <a:stretch/>
        </p:blipFill>
        <p:spPr>
          <a:xfrm>
            <a:off x="324000" y="5373720"/>
            <a:ext cx="1230120" cy="1230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1" descr="M-good-morning-america"/>
          <p:cNvPicPr/>
          <p:nvPr/>
        </p:nvPicPr>
        <p:blipFill>
          <a:blip r:embed="rId14"/>
          <a:stretch/>
        </p:blipFill>
        <p:spPr>
          <a:xfrm>
            <a:off x="3924360" y="115920"/>
            <a:ext cx="1347840" cy="1733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2" descr="Thumb"/>
          <p:cNvPicPr/>
          <p:nvPr/>
        </p:nvPicPr>
        <p:blipFill>
          <a:blip r:embed="rId15"/>
          <a:stretch/>
        </p:blipFill>
        <p:spPr>
          <a:xfrm>
            <a:off x="6443640" y="1413000"/>
            <a:ext cx="1330200" cy="1334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desperate hosewives"/>
          <p:cNvPicPr/>
          <p:nvPr/>
        </p:nvPicPr>
        <p:blipFill>
          <a:blip r:embed="rId16"/>
          <a:stretch/>
        </p:blipFill>
        <p:spPr>
          <a:xfrm>
            <a:off x="3780000" y="4005360"/>
            <a:ext cx="1099800" cy="144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4" descr="so you can dance"/>
          <p:cNvPicPr/>
          <p:nvPr/>
        </p:nvPicPr>
        <p:blipFill>
          <a:blip r:embed="rId17"/>
          <a:stretch/>
        </p:blipFill>
        <p:spPr>
          <a:xfrm rot="319800">
            <a:off x="2626920" y="907560"/>
            <a:ext cx="13176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   </a:t>
            </a: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A NEWS PROGRAMME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4" name="Picture 8" descr="TCH"/>
          <p:cNvPicPr/>
          <p:nvPr/>
        </p:nvPicPr>
        <p:blipFill>
          <a:blip r:embed="rId1"/>
          <a:stretch/>
        </p:blipFill>
        <p:spPr>
          <a:xfrm>
            <a:off x="900000" y="1604880"/>
            <a:ext cx="705672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         </a:t>
            </a: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A SITCOM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6" name="Picture 8" descr="5fe85a77ebae"/>
          <p:cNvPicPr/>
          <p:nvPr/>
        </p:nvPicPr>
        <p:blipFill>
          <a:blip r:embed="rId1"/>
          <a:stretch/>
        </p:blipFill>
        <p:spPr>
          <a:xfrm>
            <a:off x="2452680" y="1197000"/>
            <a:ext cx="4280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              </a:t>
            </a: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SERIAL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6" descr="melrose-place"/>
          <p:cNvPicPr/>
          <p:nvPr/>
        </p:nvPicPr>
        <p:blipFill>
          <a:blip r:embed="rId1"/>
          <a:stretch/>
        </p:blipFill>
        <p:spPr>
          <a:xfrm>
            <a:off x="539640" y="1557360"/>
            <a:ext cx="810108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WILD LIFE FILM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Picture 6" descr="Earth_[tfile"/>
          <p:cNvPicPr/>
          <p:nvPr/>
        </p:nvPicPr>
        <p:blipFill>
          <a:blip r:embed="rId1"/>
          <a:stretch/>
        </p:blipFill>
        <p:spPr>
          <a:xfrm>
            <a:off x="900000" y="1413000"/>
            <a:ext cx="745668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Comic Sans MS"/>
              </a:rPr>
              <a:t>HISTORIC EPIC FILM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Picture 6" descr="42121953_48Taras_Bulbaonline"/>
          <p:cNvPicPr/>
          <p:nvPr/>
        </p:nvPicPr>
        <p:blipFill>
          <a:blip r:embed="rId1"/>
          <a:stretch/>
        </p:blipFill>
        <p:spPr>
          <a:xfrm>
            <a:off x="2340000" y="1125360"/>
            <a:ext cx="45338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Comic Sans MS"/>
              </a:rPr>
              <a:t>THRILLER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4" name="Picture 6" descr="zkoifm"/>
          <p:cNvPicPr/>
          <p:nvPr/>
        </p:nvPicPr>
        <p:blipFill>
          <a:blip r:embed="rId1"/>
          <a:stretch/>
        </p:blipFill>
        <p:spPr>
          <a:xfrm>
            <a:off x="2268360" y="1125360"/>
            <a:ext cx="48405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Comic Sans MS"/>
              </a:rPr>
              <a:t>CARTOON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Picture 12" descr="rsZke7W0WN"/>
          <p:cNvPicPr/>
          <p:nvPr/>
        </p:nvPicPr>
        <p:blipFill>
          <a:blip r:embed="rId1"/>
          <a:stretch/>
        </p:blipFill>
        <p:spPr>
          <a:xfrm>
            <a:off x="2771640" y="981000"/>
            <a:ext cx="36990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Comic Sans MS"/>
              </a:rPr>
              <a:t>        </a:t>
            </a:r>
            <a:r>
              <a:rPr b="1" lang="en-US" sz="4400" spc="-1" strike="noStrike">
                <a:solidFill>
                  <a:srgbClr val="006633"/>
                </a:solidFill>
                <a:latin typeface="Comic Sans MS"/>
              </a:rPr>
              <a:t>SOAP OPERAS</a:t>
            </a: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Picture 6" descr="1224341189_1219404081_1200241126_wp017"/>
          <p:cNvPicPr/>
          <p:nvPr/>
        </p:nvPicPr>
        <p:blipFill>
          <a:blip r:embed="rId1"/>
          <a:stretch/>
        </p:blipFill>
        <p:spPr>
          <a:xfrm>
            <a:off x="1403280" y="1341360"/>
            <a:ext cx="61930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Comic Sans MS"/>
              </a:rPr>
              <a:t>           </a:t>
            </a:r>
            <a:r>
              <a:rPr b="0" lang="en-US" sz="4800" spc="-1" strike="noStrike">
                <a:solidFill>
                  <a:srgbClr val="006633"/>
                </a:solidFill>
                <a:latin typeface="Comic Sans MS"/>
              </a:rPr>
              <a:t>TV DRAMA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6" descr="Autumn in New York"/>
          <p:cNvPicPr/>
          <p:nvPr/>
        </p:nvPicPr>
        <p:blipFill>
          <a:blip r:embed="rId1"/>
          <a:stretch/>
        </p:blipFill>
        <p:spPr>
          <a:xfrm>
            <a:off x="2340000" y="1484280"/>
            <a:ext cx="3956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         </a:t>
            </a: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DETECTIVE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Picture 6" descr="1223721506_Sherlock-Holmes"/>
          <p:cNvPicPr/>
          <p:nvPr/>
        </p:nvPicPr>
        <p:blipFill>
          <a:blip r:embed="rId1"/>
          <a:stretch/>
        </p:blipFill>
        <p:spPr>
          <a:xfrm>
            <a:off x="2556000" y="1125360"/>
            <a:ext cx="38192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OPULAR TV PROGRAMMES</a:t>
            </a:r>
            <a:br>
              <a:rPr sz="38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nrich pupils knowledge about the televis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ractice listening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xpand students vocabul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bring up the communicative cul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involve students into reading writing, communicative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          </a:t>
            </a: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COMEDY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Picture 6" descr="PR20041005135810"/>
          <p:cNvPicPr/>
          <p:nvPr/>
        </p:nvPicPr>
        <p:blipFill>
          <a:blip r:embed="rId1"/>
          <a:stretch/>
        </p:blipFill>
        <p:spPr>
          <a:xfrm>
            <a:off x="1547640" y="1596960"/>
            <a:ext cx="6193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MUSIC PROGRAMME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4" descr="1232805414_sefon"/>
          <p:cNvPicPr/>
          <p:nvPr/>
        </p:nvPicPr>
        <p:blipFill>
          <a:blip r:embed="rId1"/>
          <a:stretch/>
        </p:blipFill>
        <p:spPr>
          <a:xfrm>
            <a:off x="1763640" y="1341360"/>
            <a:ext cx="56880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A QUIZ/GAME SHOW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Picture 6" descr="PR20090120151453"/>
          <p:cNvPicPr/>
          <p:nvPr/>
        </p:nvPicPr>
        <p:blipFill>
          <a:blip r:embed="rId1"/>
          <a:stretch/>
        </p:blipFill>
        <p:spPr>
          <a:xfrm>
            <a:off x="3059280" y="2732040"/>
            <a:ext cx="2974680" cy="2230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Thumb"/>
          <p:cNvPicPr/>
          <p:nvPr/>
        </p:nvPicPr>
        <p:blipFill>
          <a:blip r:embed="rId2"/>
          <a:stretch/>
        </p:blipFill>
        <p:spPr>
          <a:xfrm>
            <a:off x="2050920" y="1413000"/>
            <a:ext cx="513396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res of TV programm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5280" y="981000"/>
          <a:ext cx="8229600" cy="5121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re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al programme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oon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k show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e/quis show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 programme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         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res of fil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765000"/>
          <a:ext cx="8229600" cy="5791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re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al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drama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com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life film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 epic film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iller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p opera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die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ives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NTRODUCTION OF NEW WORDS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NTASTANT-a person who takes part in a cont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HOST- a person who invites guests to a meal, a party, a program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6" descr="607596_3"/>
          <p:cNvPicPr/>
          <p:nvPr/>
        </p:nvPicPr>
        <p:blipFill>
          <a:blip r:embed="rId1"/>
          <a:stretch/>
        </p:blipFill>
        <p:spPr>
          <a:xfrm>
            <a:off x="5299200" y="160020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04"/>
          <p:cNvPicPr/>
          <p:nvPr/>
        </p:nvPicPr>
        <p:blipFill>
          <a:blip r:embed="rId2"/>
          <a:stretch/>
        </p:blipFill>
        <p:spPr>
          <a:xfrm>
            <a:off x="5302080" y="3941640"/>
            <a:ext cx="2729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ETELLITE-a electronic devise that is send into space and moves around the Ear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AILABLE-smth that you can get, buy or fi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satellite"/>
          <p:cNvPicPr/>
          <p:nvPr/>
        </p:nvPicPr>
        <p:blipFill>
          <a:blip r:embed="rId1"/>
          <a:stretch/>
        </p:blipFill>
        <p:spPr>
          <a:xfrm>
            <a:off x="5292720" y="119700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sunduk1"/>
          <p:cNvPicPr/>
          <p:nvPr/>
        </p:nvPicPr>
        <p:blipFill>
          <a:blip r:embed="rId2"/>
          <a:stretch/>
        </p:blipFill>
        <p:spPr>
          <a:xfrm>
            <a:off x="5292720" y="3860640"/>
            <a:ext cx="2736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384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– selling of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-FINANCED – provided, paid or controlled by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49_kommerc"/>
          <p:cNvPicPr/>
          <p:nvPr/>
        </p:nvPicPr>
        <p:blipFill>
          <a:blip r:embed="rId1"/>
          <a:stretch/>
        </p:blipFill>
        <p:spPr>
          <a:xfrm>
            <a:off x="5454720" y="476280"/>
            <a:ext cx="1998720" cy="2765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11"/>
          <p:cNvPicPr/>
          <p:nvPr/>
        </p:nvPicPr>
        <p:blipFill>
          <a:blip r:embed="rId2"/>
          <a:stretch/>
        </p:blipFill>
        <p:spPr>
          <a:xfrm>
            <a:off x="5430960" y="3505320"/>
            <a:ext cx="31017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ELEVISE – to broadcast smth on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SAT54_multifid"/>
          <p:cNvPicPr/>
          <p:nvPr/>
        </p:nvPicPr>
        <p:blipFill>
          <a:blip r:embed="rId1"/>
          <a:stretch/>
        </p:blipFill>
        <p:spPr>
          <a:xfrm>
            <a:off x="4643280" y="1052640"/>
            <a:ext cx="38102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52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Answer the question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14440" indent="-51444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TV channels were available for Bohdan Levchuk in London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were the first regular programmes shown on TV in London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kind of films does BBC usually televi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programmes are popular on television in Britain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contestants are in “Wheel of Fortune”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es this game show have this nam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can a teenager become a winner in “Blockbusters” game s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A GAME SHOW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Picture 6" descr="PR20090120151453"/>
          <p:cNvPicPr/>
          <p:nvPr/>
        </p:nvPicPr>
        <p:blipFill>
          <a:blip r:embed="rId1"/>
          <a:stretch/>
        </p:blipFill>
        <p:spPr>
          <a:xfrm>
            <a:off x="1332000" y="1341360"/>
            <a:ext cx="6335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mework.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You can choose one of the task: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1. Write a paragraph “Is watching a film at the cinema better than watching it on TV? Give your reasons.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2. Describe the kinds of programmes you prefer and why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4508640"/>
            <a:ext cx="850752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NK YOU FOR YOUR SUCCESFUL WORK TODAY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2340000" y="5229360"/>
            <a:ext cx="631656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bye!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       </a:t>
            </a: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A CHAT SH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271"/>
          <p:cNvPicPr/>
          <p:nvPr/>
        </p:nvPicPr>
        <p:blipFill>
          <a:blip r:embed="rId1"/>
          <a:stretch/>
        </p:blipFill>
        <p:spPr>
          <a:xfrm>
            <a:off x="1332000" y="1557360"/>
            <a:ext cx="676908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3628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CHILDREN PROGRAM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5373360"/>
            <a:ext cx="742788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20010428162758"/>
          <p:cNvPicPr/>
          <p:nvPr/>
        </p:nvPicPr>
        <p:blipFill>
          <a:blip r:embed="rId1"/>
          <a:stretch/>
        </p:blipFill>
        <p:spPr>
          <a:xfrm>
            <a:off x="1619280" y="1484280"/>
            <a:ext cx="59770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      </a:t>
            </a: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REALITY SHOW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6" descr="793"/>
          <p:cNvPicPr/>
          <p:nvPr/>
        </p:nvPicPr>
        <p:blipFill>
          <a:blip r:embed="rId1"/>
          <a:stretch/>
        </p:blipFill>
        <p:spPr>
          <a:xfrm>
            <a:off x="1258920" y="1197000"/>
            <a:ext cx="66960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     </a:t>
            </a: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A LIVE MATCH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9800" y="5444640"/>
            <a:ext cx="8204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leandro_dinamo6"/>
          <p:cNvPicPr/>
          <p:nvPr/>
        </p:nvPicPr>
        <p:blipFill>
          <a:blip r:embed="rId1"/>
          <a:stretch/>
        </p:blipFill>
        <p:spPr>
          <a:xfrm>
            <a:off x="1476360" y="1197000"/>
            <a:ext cx="57596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EDUCATIONAL PROGRAMM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0" name="Picture 8" descr="PR20070422140200"/>
          <p:cNvPicPr/>
          <p:nvPr/>
        </p:nvPicPr>
        <p:blipFill>
          <a:blip r:embed="rId1"/>
          <a:stretch/>
        </p:blipFill>
        <p:spPr>
          <a:xfrm>
            <a:off x="1403280" y="1773360"/>
            <a:ext cx="61930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Comic Sans MS"/>
              </a:rPr>
              <a:t>TALK SHOW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6" descr="okna_s_dmitriem_nagievym_1_vypusk_128173"/>
          <p:cNvPicPr/>
          <p:nvPr/>
        </p:nvPicPr>
        <p:blipFill>
          <a:blip r:embed="rId1"/>
          <a:stretch/>
        </p:blipFill>
        <p:spPr>
          <a:xfrm>
            <a:off x="1619280" y="1268280"/>
            <a:ext cx="590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4:27:45Z</dcterms:created>
  <dc:creator>Zver</dc:creator>
  <dc:description/>
  <dc:language>en-US</dc:language>
  <cp:lastModifiedBy>11</cp:lastModifiedBy>
  <dcterms:modified xsi:type="dcterms:W3CDTF">2010-02-05T07:24:18Z</dcterms:modified>
  <cp:revision>16</cp:revision>
  <dc:subject/>
  <dc:title>Слайд 1</dc:title>
</cp:coreProperties>
</file>